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4724280" y="6137280"/>
            <a:ext cx="990720" cy="336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5791320" y="6137280"/>
            <a:ext cx="990360" cy="336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3" action="ppaction://hlinksldjump"/>
          </p:cNvPr>
          <p:cNvSpPr/>
          <p:nvPr/>
        </p:nvSpPr>
        <p:spPr>
          <a:xfrm>
            <a:off x="6805440" y="6118200"/>
            <a:ext cx="1100160" cy="336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endshow"/>
          </p:cNvPr>
          <p:cNvSpPr/>
          <p:nvPr/>
        </p:nvSpPr>
        <p:spPr>
          <a:xfrm>
            <a:off x="8012160" y="6118200"/>
            <a:ext cx="807840" cy="336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39600"/>
            <a:ext cx="495324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nlightenment and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10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Main Idea / Reading Foc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The Age of 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New Views on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New Views on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Enlightenment Ideas Sp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Quick Facts: Key Enlightenment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Enlighte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Views on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nlightenment philosophers focused on government, others on issues i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ois-Marie Arouet, wr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olt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poken philosopher, wrote with biting w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ed injustice among nobility, government,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enemies, imprisoned t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led to England for two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ed principles, fought superstition, igno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long struggle for justice, toleration, lib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14300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e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nch philosop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in mid-1700s to try to compile great expansion of human knowledge into a singl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58128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felong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ycloped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 years, last volume published 17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 Enlightenment ideas across Europe, North Amer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14300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cyclop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erot’s extensive 35-volume work, to promote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ed new ideas about art, science, government, 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358128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tacks by French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isms of church, government, leg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ed to stop publication, 1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volumes completed in secret, but immediate succes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Views on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225960"/>
            <a:ext cx="8229600" cy="265104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m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ttish economist, used reason to analyze economic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ealth of N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vanced free market 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believer in laissez-faire economics, no government re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d economy would be stronger if market forces of supply and demand were allowed to work fre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762120"/>
            <a:ext cx="8229600" cy="23461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y Wollstone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lightenment thinkers still held traditional views about w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roles wives, mothers; should receive limited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llstonecraft demanded equal rights for w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Vindication of the Rights of Wo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qual education for w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4600" y="1052640"/>
            <a:ext cx="8229600" cy="24876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philosophers apply reason to issues in socie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3919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used reason to challenge existing societal views and government poli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1143000"/>
            <a:ext cx="8076960" cy="100872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irit of optimism quickly spread throughout Europe. A few monarchs bec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lightened despo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hanging their systems of government and ruling according to Enlightenment id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3520" y="2224080"/>
            <a:ext cx="2590560" cy="3642840"/>
            <a:chOff x="533520" y="2224080"/>
            <a:chExt cx="2590560" cy="3642840"/>
          </a:xfrm>
        </p:grpSpPr>
        <p:sp>
          <p:nvSpPr>
            <p:cNvPr id="99" name=""/>
            <p:cNvSpPr/>
            <p:nvPr/>
          </p:nvSpPr>
          <p:spPr>
            <a:xfrm>
              <a:off x="533520" y="2616120"/>
              <a:ext cx="2590560" cy="32508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derick II, had duty to rule with absolute p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so strongly influenced by ideas of Volta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uilt powerful military, introduced refor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2224080"/>
              <a:ext cx="2590560" cy="3920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uss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276720" y="2224080"/>
            <a:ext cx="2590560" cy="3642840"/>
            <a:chOff x="3276720" y="2224080"/>
            <a:chExt cx="2590560" cy="3642840"/>
          </a:xfrm>
        </p:grpSpPr>
        <p:sp>
          <p:nvSpPr>
            <p:cNvPr id="102" name=""/>
            <p:cNvSpPr/>
            <p:nvPr/>
          </p:nvSpPr>
          <p:spPr>
            <a:xfrm>
              <a:off x="3276720" y="2616120"/>
              <a:ext cx="2590560" cy="325080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ementary education for all child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bolished tor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pported most forms of religious toler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duced censo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76720" y="2224080"/>
              <a:ext cx="2590560" cy="3920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eforms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019920" y="2224080"/>
            <a:ext cx="2590560" cy="3642840"/>
            <a:chOff x="6019920" y="2224080"/>
            <a:chExt cx="2590560" cy="3642840"/>
          </a:xfrm>
        </p:grpSpPr>
        <p:sp>
          <p:nvSpPr>
            <p:cNvPr id="105" name=""/>
            <p:cNvSpPr/>
            <p:nvPr/>
          </p:nvSpPr>
          <p:spPr>
            <a:xfrm>
              <a:off x="6019920" y="2616120"/>
              <a:ext cx="2590560" cy="32508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 religious tolerance for Je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posed serfdom, did not abol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d not make reforms to achieve justice but to make own rule more powerf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19920" y="2224080"/>
              <a:ext cx="2590560" cy="3920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imitatio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lightenment Ideas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herine II became ruler, 17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amed of establishing order, justice, supporting education,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works of, corresponded with Voltaire, Dider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mi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ded to free serfs, but would lose support of wealthy landow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herine had no intention of giving up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me tyrant, imposed serfdom on more Russians than ever bef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ed Russian constitution, code of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ed too liberal, never put into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lightenment Ideas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lightenment Ideas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radical enlightened despot, 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eph II, became emperor 17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tious reform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d torture, death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free food, medicine for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ed religious tolerance to Protestants and J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lished serfdom, laborers to be pa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resisted by nobility,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143000"/>
            <a:ext cx="8229600" cy="21337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llenged Beli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s, philosophers questioned ideas long held as absolute tr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d beliefs in absolute monarch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ed relationship between church and 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ated rules and rights of people in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d ideas reformers and revolutionaries would later use to change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3352680"/>
            <a:ext cx="4038120" cy="2590560"/>
            <a:chOff x="457200" y="3352680"/>
            <a:chExt cx="4038120" cy="2590560"/>
          </a:xfrm>
        </p:grpSpPr>
        <p:sp>
          <p:nvSpPr>
            <p:cNvPr id="117" name=""/>
            <p:cNvSpPr/>
            <p:nvPr/>
          </p:nvSpPr>
          <p:spPr>
            <a:xfrm>
              <a:off x="457200" y="3805560"/>
              <a:ext cx="4038120" cy="21376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lief in progress spurred many to enact refo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lieved reason could solve any problem, debated ways to make society more ju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d not accept poverty, ignorance, inequality as facts of li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3352680"/>
              <a:ext cx="4038120" cy="4528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eform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48320" y="3352680"/>
            <a:ext cx="4038120" cy="2590560"/>
            <a:chOff x="4648320" y="3352680"/>
            <a:chExt cx="4038120" cy="2590560"/>
          </a:xfrm>
        </p:grpSpPr>
        <p:sp>
          <p:nvSpPr>
            <p:cNvPr id="120" name=""/>
            <p:cNvSpPr/>
            <p:nvPr/>
          </p:nvSpPr>
          <p:spPr>
            <a:xfrm>
              <a:off x="4648320" y="3805560"/>
              <a:ext cx="4038120" cy="21376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as about power, authority inspired reforms and rev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erican colonists inspired to break free from British monarch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onists strongly influenced by political views of Locke, Roussea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3352680"/>
              <a:ext cx="4038120" cy="4528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evolutio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lightenment Ideas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8320" y="974880"/>
            <a:ext cx="5613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027080"/>
            <a:ext cx="8229600" cy="24591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uccessful were the reforms of the enlightened despo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8480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were successful but limited by political op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as the Enlightenment influenced by reaso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new views did philosophers have about governm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new views did philosophers have about socie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Enlightenment sprea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ropean thinkers developed new ideas about government and society during the Enlighten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lighte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ge of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Revolution convinced many European thinkers about power of rea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method and reason led to discoveries about physical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ndered if reason could be used to study human nature,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2976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eneration of philosophers, 16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2976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ed reason as best way to understand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2976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ed reason could be used to solve all huma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2976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ime of optimism now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ighte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660920" y="1371600"/>
            <a:ext cx="4025520" cy="4495320"/>
            <a:chOff x="4660920" y="1371600"/>
            <a:chExt cx="4025520" cy="4495320"/>
          </a:xfrm>
        </p:grpSpPr>
        <p:sp>
          <p:nvSpPr>
            <p:cNvPr id="53" name=""/>
            <p:cNvSpPr/>
            <p:nvPr/>
          </p:nvSpPr>
          <p:spPr>
            <a:xfrm>
              <a:off x="4660920" y="1855440"/>
              <a:ext cx="4025520" cy="40114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ched peak in 1700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ris, center of intellectual 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risian women hosted social gatherings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ilosophers, artists, scientists, writers regularly discussed ide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60920" y="1371600"/>
              <a:ext cx="4025520" cy="48384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eak of Enlighte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57200" y="1371600"/>
            <a:ext cx="4025520" cy="4495320"/>
            <a:chOff x="457200" y="1371600"/>
            <a:chExt cx="4025520" cy="4495320"/>
          </a:xfrm>
        </p:grpSpPr>
        <p:sp>
          <p:nvSpPr>
            <p:cNvPr id="56" name=""/>
            <p:cNvSpPr/>
            <p:nvPr/>
          </p:nvSpPr>
          <p:spPr>
            <a:xfrm>
              <a:off x="457200" y="1855440"/>
              <a:ext cx="4025520" cy="40114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ducated people throughout Europe, beyond, insp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eld notion that world problems could be solv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ideas debated in coffeehouses, public 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riters published ideas in books, magazines, pamphl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" y="1371600"/>
              <a:ext cx="4025520" cy="4838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deas of Enlighte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ge of Rea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1640" y="985680"/>
            <a:ext cx="8229600" cy="24177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xciting conclusion did philosophers reach during the Enlighte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74796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son could be used to solve all human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143000"/>
            <a:ext cx="8076960" cy="7038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Enlightenment began, European thinkers began looking for ways to apply reason in order to improve the human condi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1905120"/>
            <a:ext cx="3885840" cy="3961800"/>
            <a:chOff x="533520" y="1905120"/>
            <a:chExt cx="3885840" cy="3961800"/>
          </a:xfrm>
        </p:grpSpPr>
        <p:sp>
          <p:nvSpPr>
            <p:cNvPr id="65" name=""/>
            <p:cNvSpPr/>
            <p:nvPr/>
          </p:nvSpPr>
          <p:spPr>
            <a:xfrm>
              <a:off x="533520" y="2331360"/>
              <a:ext cx="3885840" cy="35355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glish thinker, wrote views of government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eviath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bsolute monarchy b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lieved people needed government to impose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276120">
                <a:lnSpc>
                  <a:spcPct val="100000"/>
                </a:lnSpc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ople selfish, gree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276120">
                <a:lnSpc>
                  <a:spcPct val="100000"/>
                </a:lnSpc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ould exchange some freedoms for peace, safety,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27612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al contr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520" y="190512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omas Hobb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24280" y="1905120"/>
            <a:ext cx="3885840" cy="3961800"/>
            <a:chOff x="4724280" y="1905120"/>
            <a:chExt cx="3885840" cy="3961800"/>
          </a:xfrm>
        </p:grpSpPr>
        <p:sp>
          <p:nvSpPr>
            <p:cNvPr id="68" name=""/>
            <p:cNvSpPr/>
            <p:nvPr/>
          </p:nvSpPr>
          <p:spPr>
            <a:xfrm>
              <a:off x="4724280" y="2331360"/>
              <a:ext cx="3885840" cy="35355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glish philosopher, believed all people born eq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overnment should protect people’s natural righ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2560" indent="-336600">
                <a:lnSpc>
                  <a:spcPct val="100000"/>
                </a:lnSpc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narchs not chosen by 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2560" indent="-336600">
                <a:lnSpc>
                  <a:spcPct val="100000"/>
                </a:lnSpc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overnment by cons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2560" indent="-336600">
                <a:lnSpc>
                  <a:spcPct val="100000"/>
                </a:lnSpc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wer limited by la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2560" indent="-336600">
                <a:lnSpc>
                  <a:spcPct val="100000"/>
                </a:lnSpc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deas foundation for modern democr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24280" y="190512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John Lo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Views on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352680"/>
            <a:ext cx="8229600" cy="234612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of Government,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d government should work for common good, not wealthy f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should give up some freedoms for benefit of commun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sed inequality i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s inspired revolutionaries in years to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8229600" cy="23461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nch philosopher, believed people basically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d society corrupted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he Social Contract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between all members of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is born free but everywhere is in chain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paration of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form of government divided power among branches of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ion of powers kept individual or group from abusing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understood structure of British government, rational conclusion any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ion of powers allowed each branch to check against power of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 later important structure of democratic 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Spirit of the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1748, showed admiration of Great Britain’s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s divided into branches: legislative, executive, jud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iament made laws, king carried out laws, courts interpreted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on de Montesqui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000080"/>
            <a:ext cx="8229600" cy="30067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In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the subject of government so important to Hobbes, Locke, Rousseau and Montesquie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4376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philosopher had strong opinions about the power and purpose of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乩歫椠䱡畳椀㸲㻸ꔿ㌋䬮ꍰ䞮誀圇짗꾬钒붤鏊꣊㥊揤鞁</cp:lastModifiedBy>
  <cp:lastPrinted>2005-02-01T16:21:45Z</cp:lastPrinted>
  <dcterms:modified xsi:type="dcterms:W3CDTF">2007-01-17T11:27:24Z</dcterms:modified>
  <cp:revision>248</cp:revision>
  <dc:subject/>
  <dc:title>PowerPoint Presentation</dc:title>
</cp:coreProperties>
</file>